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434-06CA-401E-A130-4794CC22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258-5D79-48D5-BF6D-9586CBD6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FC29D-987B-4A19-ADB8-5ADC6A47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8D836-1391-4BAF-8BF9-6F02D515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85ABE-FDC2-4E83-BC47-B5993733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6E081-26AF-43F7-8E6C-E78FD74A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F071F-E837-4D2C-A5A1-ECD6FBB7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D5CE5-DB61-4025-8ACE-4E4D1F59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AFB49-8A05-4F72-8C23-69E42F4B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A61C8-6F4D-4DB1-B967-C95E7C68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04019-062B-41DC-AF67-B1D459A4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70742-32AD-4860-951A-9971D9E3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E3EF-D355-4123-B4A1-030A1D47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25157-440F-4213-9B92-045893DD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ECDFB-706F-4BEB-9D75-E7A50243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DF946-71CD-4B5D-9DF2-53A8CCB5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0D8B0-B268-49BF-955E-EE99E063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61650-237B-4515-A139-64C476AA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946E6-C7A7-48B8-9A05-31B407F6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5E4C9-4339-4B51-A37C-D46A66A8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89A85-562E-45B7-9B64-929A2958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19DA9-1AB6-457E-ADFB-52F5552B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B6E16-267E-47C9-A816-3D699C8E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6B1A-3C8D-400F-B19F-9CF97D76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5F040-8A79-41C1-A574-904D8506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2189B-CA4E-4E79-8679-F890B0F0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2126A-9491-4BC0-8E74-8BF60F35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CF6F7-C2D8-4005-8C24-62903723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ADBF2-D2AE-4A6E-96D3-12ABE765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C67CF-AA15-417D-9C0E-BFE7002C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BA046-E02B-444A-AC34-8B323F93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BBCC1-61ED-4078-B87F-79AD4B50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0FA2F-6E86-4012-AC01-A66AC3A3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03903-739A-4CE3-AE59-30FC1A2B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7A66-D185-4CAF-8BE2-C460021F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F7C56-4F21-40DF-94F5-E50C6634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2C38A-CB87-44CF-B463-D0D79ECF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D024E-DC9A-4976-B11F-601E2344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117FD-2CD3-470B-BF6F-0BF25669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32A23-DC02-4F25-BC10-FCAA4659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DDD60-5EAA-42BB-957F-AB3A594F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28AF8-F967-4800-97F9-D35CBA9C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8442F-D22F-4387-AEE1-1D9CAEC2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41D34-C240-451E-8C56-8B10B010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2A45C-9ED6-42F6-902D-0D935A1D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BB3A-6744-4AFA-83A8-7E515EB4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5A97E-7AD1-41E9-9510-1BA34A7E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60E77-CD23-471A-92B8-E65849AA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DD5E2-5762-4C5A-9420-CECF7079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79A31-B3CE-4D17-8CD9-87A2424D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F9459-9A28-4DC3-8C66-D312E104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2B9493-7502-4F74-9934-52181CC7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5A282-D3C1-4CC4-B13D-0B8BBEB9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83A49-7812-42F9-B54A-FDEFC795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E849C-72BA-4624-9F0C-04C631F9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05865-9250-48FF-8F6C-C9BA361A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96DA-1321-4D93-955C-416684BC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67192D-73BD-405A-A2A5-82B1C0F8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931C5-434B-4BC3-892F-349386E7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8DD3FF-294C-41C5-84E1-CDC913AA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2B3929-9A25-4478-AC6A-99CB6957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BF7BA5-E11D-4AA5-98C1-41CE6028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6ED6C6-1923-4CB9-BB5B-8347B517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295BB-CA8F-400D-BB71-403E2B4B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81A281-660E-4266-8DE5-FB1BF3E7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1EF60-8624-4D44-ACF4-49C47C59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936B7-8C1D-4B50-B78C-359BCB02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6D11-A123-4E6C-8CE8-1DEEEDAF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C8600-E435-47DA-8F06-397D3F5B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40CC90-688C-46E2-9B28-AE938E10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5EAD2B-AA8E-4687-BB71-45957CC6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1C328A-40E2-405F-A4E1-C09F14A5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A28425-C2AD-46B5-ABA2-2E839886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2FA21-7DF7-4900-9B8B-CB44EDEE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714460-30E9-4374-9C80-A8D7A21C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7B46C7-C231-4142-AC61-957764F2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A195A1-6329-45D3-BC57-B2F9B2DD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4035F9-7061-47F0-AFC4-6DEA62B6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4C52-2F76-4356-B335-50528935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2BC8AB-E7A6-4E51-B237-24DA301D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4BE80-EE80-4913-A8E0-C896DAF2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19F6EF-8550-40C0-A22B-49C43776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2801B0-49A4-456C-9EE2-6CE7D98A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332041-7D2A-4C0B-8EA6-0CFA7C7C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4FACD6-C4A4-4C43-9943-78847B05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6F67AF-BBC7-4573-B805-6D916A30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38DB51-C2E7-483E-BB0B-D80E7FBE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E9DBC3-6E8B-4741-90DD-B72E7532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884521-5568-4E06-A573-F650F37E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32C9-6018-4FF7-9985-2B8F86B9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53EDFA-CD14-4CCF-B4B6-4F921BEF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BB0B27-994F-4B73-94FA-6F73FD0E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0DE31E-20AC-41E7-A910-74EC910A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8BC5FC-121C-47A5-8D0A-E37B9F60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F250A7-4BFB-4702-8ECA-503F2734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F05510-0892-4138-B8A3-C2A4A1C9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6E8EC0-C4D5-4A0D-BC4D-D415A45D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EB20EA-4830-49E2-B16B-29693EDA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6B6F68-3CEA-4195-B331-D07614A1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10BD19-0101-4749-8EC7-27837701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AE30-3E5C-416B-AE38-65B86B6E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CEDA7C-0D91-4112-B2A1-739DAC5D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287ABA-D2AB-4407-81CE-A205A872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418ADF-8B6F-4D9B-BA3B-D0ADC80D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B7E58F-D101-49CC-833B-5D94D6C1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CD699E-88BC-4EDC-85F7-A54FFE44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B36270-4249-4052-A574-4123A1FC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71476A-DCD7-4162-BA6E-A7F90698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5C1353-283E-4940-A341-3A60AD46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11943C-587F-4BFF-8903-7639FF75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1CFDB2-AF4F-47D1-9CC9-41B26D2E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AACF-CE5C-41E7-A28D-5BFFA928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251F-831F-4C2F-A5AA-23F4DBF8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9B3E0A-0B1A-4B3E-AECB-52FA25E3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04EB0-DE35-4E21-8ECA-C3C4B931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06A1B5-143F-4216-A929-360AC18E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946635-B31D-44B3-A4C2-EAE96DBC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EAA96C-2DAA-4E54-9382-56DCB682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A42858-3E7E-4A07-AC12-B6A0C8EF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4C8E81-752F-42DA-9CA9-22B8A72B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3072EC-4E6E-4D44-AA83-91ED863A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144737-720E-40A9-BE23-907F6F45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5B5AD1-DD12-42DA-8B36-BB980A8A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9D39-1D55-41D7-A766-C1ED7048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8C198F-6474-40E2-8BBC-968DCE7A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B86C80-DE7A-4BD7-8AAE-B23BD285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65F957-D4A1-463C-A5BB-A214BAB2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EE1A44-0764-4C2D-B1BD-3C2B2D5C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04E557-D9C6-4E34-841D-AE699EE5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A63E37-F435-4C5C-9AFC-8D5668F3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2F7937-D3E8-4123-AFEC-8BA581F7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46687F-960B-4AB1-8755-67389068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353C23-7469-4D42-8FF7-782CF235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D64E83-B5F9-4381-897D-3EA35BF3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BAD2-1620-488B-977C-249A3FB7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5AAC3E-0A67-4651-8F40-5B6FC747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2A0587-4884-4796-8863-8E8E0D30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D124FF-C89F-4592-8D13-C421250E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E14CA1-CADA-45D3-90A2-7EF35DFC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D8FE00-E701-4BA1-B8D2-B695CB53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504B91-B936-4103-A0F9-9CB59724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F0B124-C586-4542-A1DA-E4F62BBF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98B793-2CCF-4C71-BEDF-1194F1A6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EAB173-3B49-4652-A356-D6CD1494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A986AD-4400-4A15-9601-662844F7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7E8F-8F74-4970-8091-3AE8D082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4BC2E9-22ED-4506-9547-1D3B1E7A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6D00EE-F092-4771-A1D1-65463724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41387D-3B53-4A5C-9BDE-11BB0DE9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FA08C0-EE0C-4DFB-9564-9A28340C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A3ABE2-BCBD-414D-AE7C-D9AB597F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FD0E0F-24AD-4770-8FD6-615C32BC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930423-90AE-4515-ABAD-5108DF96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93552F-B5A7-43DD-B276-C4C9C643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75B3B6-94CA-4732-92F1-43B2F677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9577BA-4CC5-4480-9C6D-8D6E9AB3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B25C-FF02-43D7-8B76-435E25FE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033815-9734-4E17-8F05-B97A46B8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6EE522-10F0-4D7D-9EA4-9C3A5B7A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0C2C15-4B19-4B21-8096-4084ED3F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4876D1-12E9-4D0C-9AE9-34076604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D2D576-190B-4F08-B41B-70277152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6BE36A-989B-4CD2-B674-0536BB1F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B1D174-71EF-47C8-995C-41EDF132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453D8F-AF14-4AD0-9BBC-9C6F7AD1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74222B-5321-44C5-A8BC-3AD7599B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08017B-C4D1-44EA-8B50-939F08F7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D4098-8903-4D1F-A4A4-821405B0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A77FC8-7FD7-49C0-ABFA-20746B00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F3A967-A949-40AE-B16B-3EA16960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CCA122-844C-44BB-BC65-B0CE8A66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86B69-1B3D-4014-AD74-4EC47D77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A50B5-7C91-4EB6-AACB-D1BF72A9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CA205-470D-4AD6-86CE-3FE333B5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D9E70-7FB1-43F2-BE9A-2435AEE9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7E7-4E4D-45ED-811E-AB595A83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4417B-20CD-4D6C-925B-E4505302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23751-8E5E-4B13-AD36-B644AB2D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F7BFB-1ECE-4FC0-A25A-3EE0A9CB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6BFBE-D8F3-4CAA-94AC-38B29D16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1A0AA-C5E8-4387-91BB-A5E1F5C0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962E5-61FA-4C86-9B9A-E52DD7F3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ADD98-496F-432C-BDA9-977DCE12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9E3DF-12FC-4808-8CE7-810B52FB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C1230-1DB6-40D7-AE24-A8F9795F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46956-C6F6-4790-821B-9EC8AF4C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34E-2E2F-40F7-89BC-CB791E89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6C128-3703-4D40-8E0A-F6EB1FC3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4E691-EDB3-4ED3-97BB-6BB01596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E06AE-6A86-4403-ACE4-F348FBEB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45722-210C-46D0-BADD-9AF9B548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751E1-13A3-4ECE-B787-4932F021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AA9AF-DA9F-4574-81A6-9DDFC916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E6FE3-2987-40E2-B845-D593B7B5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527C2-A738-490B-A631-09188D31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E5AAD-BBEE-4606-9356-F03C441F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101DB-C635-4A20-99DB-AF0FCE5C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3593-E686-4318-9393-9A4753D5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5A619-E01B-400B-ADA7-EFF6C565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6554D-4F26-4B73-B92B-23269B3A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8A747-7B31-44F2-A3FF-A44EBA5A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1B057-9AB2-4C11-B0B0-98368BBD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6A0AD-9634-40C5-9281-EAFDA631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4CC56-42BE-459D-883C-7FDD672D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C5571-115A-4057-8288-EEDC7A1A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B8ABE-494B-44C7-8102-0B88BE4A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7D650-FE8F-41A0-81DF-65CC6985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A5402-138B-4509-B8CA-A149A4DC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4D0-0BC8-41C4-A30F-092B562E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EB08C-5F62-4F82-8AE3-88CE987B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5E9AA-0A3A-42F8-908B-07538C3D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A8D49-2F86-47E6-9B5C-0EC50189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DEBD0-3431-4C86-A969-1E4314F8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5B3F3-17AE-43F0-B4F4-1336B0AC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B46BD-0CCF-474F-879D-7AC02673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102B4-E282-46A3-ADD1-974E9C9C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D36E6-8ACE-4A8A-AEAA-86F613EC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00411-5CDB-4091-B7FE-57972AAA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133D4-30A0-44CC-9BF3-D7971797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7BD-1059-454F-B3A8-D6861794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8C481-F01B-47B0-8B9F-868AC297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17EA2-C6FC-41A2-8352-DBB6FE0E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6B491-29E6-4FBE-A18B-7BE800F3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0D4DF-2AC9-45A7-A3C7-0479C512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0CEBB-CC49-42A5-9B42-4429DE3D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56937-7082-4C97-86F0-B0693B3E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342E5-BD32-4FDD-BFE5-C73638A0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AD302-06A3-407E-B096-48F79059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56BED-F81E-404E-9C2E-3966EE51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662B6-CBAA-427C-9EAA-48312A26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F0E2-6F64-49D4-9EED-00EE0B0A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48E57-192A-4E5C-A1AF-4506048D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31546-F6CD-46D9-805B-B6755127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D8629-B619-466A-981A-DE71626C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B3ED0-7B22-44A9-A39C-5FCA5382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B6D93-A746-4719-8B65-32732ADD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91B40-A048-4794-8C49-AC5A6390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41CD3-BD31-454B-AA55-A0E45EF0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DCA83-3A9A-4AD5-9A38-DC6E0820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D5FB3-EE86-4B09-920C-F92B729C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927D0-9C48-4DAB-BB0E-558D9AD4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092-621E-4ACD-9A74-99913B16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56C1F-DE8E-4195-AA05-6CD43319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935B3-A73F-4287-B1CA-3A915F64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F954A-01BC-4CC7-846C-64948736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A1D19-C93C-4C2D-BB39-0FF28E0A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54EC1-77A9-4825-934E-E53EFF4B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1C7B4-7266-4D6E-A20F-9DBBB6FD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1F838-CDDD-4371-9234-CBD31CF9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39155-D4AD-4C1A-AA86-E33800E8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F50FE-0F62-4D48-ADD8-CA6EBFDB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AE69C-C7BE-43B2-AB1F-3DB89788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5BED-C179-486C-9E6A-C1BF03053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FD37-8A4B-41C8-994B-33D1D7530B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5142-76CC-4F86-917C-3BAA66B27A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BD69-6412-4686-8844-306D2ED477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7F61-69D3-442B-A0BC-0FDCF34480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12E2-9E78-4D41-A1B0-918F18FA67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E2E9-9DF1-4A51-88B4-AF80BF03CC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B8CA-E743-4979-875C-194291FEC4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FD79-F3C0-48AD-9F5F-672F519ED0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FD8F-7951-49A9-BB9E-0EA113BCFE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429A-4018-4201-940B-6D9E53BA67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AFA0-48E8-4E34-9AF6-435B1F573D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68EF-1DA4-4835-A926-9DE65BAFAF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3B3B-611F-4CA2-9A25-CC56BDCB06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FA96-F3C9-4387-A6E6-F5AB1F5A09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5C2A-F405-402A-AA3D-C58482CC0C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D82F-E7B4-4B61-AD3F-09DA3DF694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1B7A-8292-4182-BD8C-868F1E5378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3A5C-D6E8-4C41-84D2-8C780E740F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556B-30F5-40B7-A02E-DDC128A2DB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4AEB-A80A-49C9-A509-BBF6629913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9938-1C00-476E-8037-B930B73162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FA80-31D5-4DD7-AF74-20CED6F159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399D-547E-417A-8265-38DB0A47CC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3F8B-6745-4DA1-8233-16DD17CED7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53DD-0973-4365-BDD2-F6E6E31C3E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8E14-82CE-43B4-AC93-9098537973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7B1F-22E3-4003-BF4B-7BE54DE10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63C0-4A1D-4D1F-8A44-C4F29293F6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1221-6BB5-4248-8800-36292B1C84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D6A6-73F1-418D-AD09-7461F4B8E0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0DF0-ABC8-46B2-94E4-FAF0E29281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C0F7-000A-436C-973E-ACC152C14B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C233-F03C-41F6-85B7-E9F5D2CEE0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C965-BE89-4C03-B383-5665112CF0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5344-63AF-4888-BADD-E9C1A77AF5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99A0-7F96-4CFB-8513-2950CFB134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0FF1-EE59-4B2A-B148-51142633EA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1B87-CF3D-42EA-92FF-5DB4FE71CE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C129-3542-476E-B530-510E240FCB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495520" y="2943360"/>
            <a:ext cx="41529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55440" y="1228680"/>
            <a:ext cx="9031320" cy="46166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2124000" y="2468520"/>
            <a:ext cx="792360" cy="2556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6156360" y="2468520"/>
            <a:ext cx="2448000" cy="2556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763640" y="2762280"/>
            <a:ext cx="2521080" cy="2556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5940360" y="2762280"/>
            <a:ext cx="2448000" cy="2556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2195640" y="3044880"/>
            <a:ext cx="2520720" cy="2556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2050920" y="3592440"/>
            <a:ext cx="865440" cy="2556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4788000" y="3583080"/>
            <a:ext cx="865080" cy="2556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7812000" y="3592440"/>
            <a:ext cx="865440" cy="2556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1979640" y="3889440"/>
            <a:ext cx="865080" cy="2556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4859280" y="3889440"/>
            <a:ext cx="865080" cy="2556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3"/>
          <a:stretch/>
        </p:blipFill>
        <p:spPr>
          <a:xfrm>
            <a:off x="755640" y="5319720"/>
            <a:ext cx="431640" cy="2556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4"/>
          <a:stretch/>
        </p:blipFill>
        <p:spPr>
          <a:xfrm>
            <a:off x="3564000" y="5319720"/>
            <a:ext cx="431640" cy="2556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15"/>
          <a:stretch/>
        </p:blipFill>
        <p:spPr>
          <a:xfrm>
            <a:off x="5460840" y="5310360"/>
            <a:ext cx="432000" cy="2552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16"/>
          <a:stretch/>
        </p:blipFill>
        <p:spPr>
          <a:xfrm>
            <a:off x="7543800" y="5310360"/>
            <a:ext cx="431640" cy="2552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17"/>
          <a:stretch/>
        </p:blipFill>
        <p:spPr>
          <a:xfrm>
            <a:off x="755640" y="5608800"/>
            <a:ext cx="431640" cy="2556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18"/>
          <a:stretch/>
        </p:blipFill>
        <p:spPr>
          <a:xfrm>
            <a:off x="3492360" y="5608800"/>
            <a:ext cx="432000" cy="2556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9"/>
          <a:stretch/>
        </p:blipFill>
        <p:spPr>
          <a:xfrm>
            <a:off x="5479920" y="5608800"/>
            <a:ext cx="43200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2" descr=""/>
          <p:cNvPicPr/>
          <p:nvPr/>
        </p:nvPicPr>
        <p:blipFill>
          <a:blip r:embed="rId1"/>
          <a:stretch/>
        </p:blipFill>
        <p:spPr>
          <a:xfrm>
            <a:off x="144360" y="2536920"/>
            <a:ext cx="8855280" cy="17841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774720" y="2790720"/>
            <a:ext cx="360360" cy="249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755640" y="3068640"/>
            <a:ext cx="360360" cy="249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755640" y="3328920"/>
            <a:ext cx="360360" cy="249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755640" y="3573360"/>
            <a:ext cx="360360" cy="249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6"/>
          <a:stretch/>
        </p:blipFill>
        <p:spPr>
          <a:xfrm>
            <a:off x="755640" y="3817800"/>
            <a:ext cx="360360" cy="249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7"/>
          <a:stretch/>
        </p:blipFill>
        <p:spPr>
          <a:xfrm>
            <a:off x="755640" y="4086360"/>
            <a:ext cx="36036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7" name="图片 1" descr=""/>
          <p:cNvPicPr/>
          <p:nvPr/>
        </p:nvPicPr>
        <p:blipFill>
          <a:blip r:embed="rId1"/>
          <a:stretch/>
        </p:blipFill>
        <p:spPr>
          <a:xfrm>
            <a:off x="92160" y="841320"/>
            <a:ext cx="89312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3:19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